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19134224"/>
        <c:axId val="1171920"/>
      </c:barChart>
      <c:catAx>
        <c:axId val="19134224"/>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1171920"/>
        <c:crosses val="autoZero"/>
        <c:auto val="1"/>
        <c:lblAlgn val="ctr"/>
        <c:lblOffset val="100"/>
        <c:noMultiLvlLbl val="0"/>
      </c:catAx>
      <c:valAx>
        <c:axId val="1171920"/>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19134224"/>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DCC2C-A1E4-4951-A095-7ADE290C1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21B73-859E-40F3-B37D-299E00752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A42FC-8943-42F1-B9C3-45CB81D51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06430-E0A0-4F2D-9E7C-89F6E6ECD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CE2CA0-D9A8-49DA-B550-5A95E5DD56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6A00D-161C-4AB0-99B2-62F5C2D37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A29F7-D711-4E87-AF46-94777FD34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2F3E7-835E-48E8-B3D5-EE4E0BE98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9F6D8-1486-417B-83DD-9BF78E87F8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00414-D16B-4156-B8B3-2A6108C6D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CF37D-F6D4-43B0-B754-02A68038B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E3E89-4751-46C1-B10B-D82286296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09C8D-DF67-4426-BEDE-355663978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268F5-A4A4-4D20-9ECA-4EAF88382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4700E-0091-4BD3-B2F3-3CA2C8357E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BDAF52-7B36-4905-91F4-D67853B46C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006663-8F38-44D8-AFFF-ACF6692705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7A760-B992-4CD2-96E5-F0D5D849E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A4564-5001-429A-A34B-A2C1834EB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993B1-9CFD-4497-AD48-6C6E07D9E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12341-FE28-4E99-9511-EAC10D74E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4C68F-960D-4367-89F9-241EA5D45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9E453-7D77-4CDB-BAE7-F51C648D7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778E5-5790-4CF0-A9C8-5CD2A5732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586F8E-A766-45E2-9044-ECCA3507BC1E}"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DAF40E-FB24-4982-80D3-A2B9E7E374FE}"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